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.jpeg" ContentType="image/jpeg"/>
  <Override PartName="/ppt/media/laser.wav" ContentType="audio/x-wav"/>
  <Override PartName="/ppt/media/image4.jpeg" ContentType="image/jpeg"/>
  <Override PartName="/ppt/media/voltage.wav" ContentType="audio/x-wav"/>
  <Override PartName="/ppt/media/image1.jpeg" ContentType="image/jpeg"/>
  <Override PartName="/ppt/media/camera.wav" ContentType="audio/x-wav"/>
  <Override PartName="/ppt/media/explode.wav" ContentType="audio/x-wav"/>
  <Override PartName="/ppt/media/wind.wav" ContentType="audio/x-wav"/>
  <Override PartName="/ppt/media/chimes.wav" ContentType="audio/x-wav"/>
  <Override PartName="/ppt/media/image2.jpeg" ContentType="image/jpeg"/>
  <Override PartName="/ppt/media/applause.wav" ContentType="audio/x-wav"/>
  <Override PartName="/ppt/media/breeze.wav" ContentType="audio/x-wav"/>
  <Override PartName="/ppt/media/drumroll.wav" ContentType="audio/x-wav"/>
  <Override PartName="/ppt/media/image3.jpeg" ContentType="image/jpeg"/>
  <Override PartName="/ppt/media/hammer.wav" ContentType="audio/x-wav"/>
  <Override PartName="/ppt/media/cashreg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ACB2-8593-49E5-98B2-AC451E0EC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3771-80AB-43AA-997E-699BAD10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FF7E-5483-41C6-B53E-527A0554F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0CE3-FB17-4CF6-9576-2A5286E9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6DE7-BDC1-49BD-86A0-46814D55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5F3E-68BD-45B1-A0D4-4D964D61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E2E4-6ABA-4DAA-A294-45F52CB5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54DE-4C2B-4824-8857-1AA7F726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E9AF-F78C-4E7F-82BC-3514B8FD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908F-3EDD-4FDB-A5C9-CC088F88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4CF4-0F8A-44E8-AA6D-5316F9EB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665E-DB88-40F6-B047-6FFC993A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28BB-0682-4B93-B305-DDD2ED98BC1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Khmer Kingdom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 QUENTIN BROWN  and THOMAS LUNGER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plus/>
    <p:sndAc>
      <p:stSnd>
        <p:snd r:embed="rId1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 1120 About Angkor Wat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gkor Wat were magnificent towers. It was later put on the countries flag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fade/>
    <p:sndAc>
      <p:stSnd>
        <p:snd r:embed="rId1" name="lase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nvaders destroy the capital city of Angko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Content Placeholder 3" descr="Angkor.jpg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n 1431 Invaders destroy the capital city of Angko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Thai destroyed the capital Angkor. The people of the Khmer kingdom never recovered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plus/>
    <p:sndAc>
      <p:stSnd>
        <p:snd r:embed="rId1" name="voltag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tra Fac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gkor shows that the people of Khmer can build amazing thing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reason people put Angkor Wat on the flag is to show cultur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people of Khmer were able to build the amazing structure  is because the people had faith in there king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pull dir="ld"/>
    <p:sndAc>
      <p:stSnd>
        <p:snd r:embed="rId1" name="wind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LIDE SHOW BY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omas Lung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Quentin Brow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ANKS FOR WATC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diamond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eography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Khmer kingdom was located in the Indochina peninsula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zoom dir="out"/>
    <p:sndAc>
      <p:stSnd>
        <p:snd r:embed="rId1" name="hammer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Economy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irrigation system was the key to the success of the Khmer economy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uring the monsoon season the large reservoirs   levees  moats and ponds helped prevent the flooding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Jayavarman the 2n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Content Placeholder 3" descr="images.jpg"/>
          <p:cNvPicPr/>
          <p:nvPr/>
        </p:nvPicPr>
        <p:blipFill>
          <a:blip r:embed="rId1"/>
          <a:stretch/>
        </p:blipFill>
        <p:spPr>
          <a:xfrm>
            <a:off x="685800" y="1523880"/>
            <a:ext cx="7467480" cy="48006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n 802 Jayavarman the 2nd reunites the kingdom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 reunited the kingdom in 802. He was crowned king according to Hindu rites, which declared he was a Deva-raja or god king. He used his power to m form large armies to defend the kingdom and invade other area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wheel spokes="8"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Is A Deva-Raj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Deva-Raja is a god king. That had all power and controlled every part in societ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y used the power to make armies to defend the kingdom and invade other area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also used the power to make large temples.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heel spokes="1"/>
    <p:sndAc>
      <p:stSnd>
        <p:snd r:embed="rId1" name="breez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ryavarman the 2n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Content Placeholder 3" descr="24LPCAVM85CJCAAV55XCCA2CVM89CAN1XC8BCAJQ8L76CA16U0VACAC0MKT3CAUVTJWRCACE5O23CAYRPKRPCAL3Z88XCAALPK7DCAG3S22XCAK2CI4JCABG87TLCAP34CFFCA8O35JGCAJB3CJWCAD0NPQV.jpg"/>
          <p:cNvPicPr/>
          <p:nvPr/>
        </p:nvPicPr>
        <p:blipFill>
          <a:blip r:embed="rId1"/>
          <a:stretch/>
        </p:blipFill>
        <p:spPr>
          <a:xfrm>
            <a:off x="0" y="1447920"/>
            <a:ext cx="9221760" cy="530532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  <p:sndAc>
      <p:stSnd>
        <p:snd r:embed="rId2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n 1113 Suryavarman the 2nd takes the throne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empire reached his peak in the twelfth century under his rule. He also oversaw the construction of Angkor Wat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zoom dir="in"/>
    <p:sndAc>
      <p:stSnd>
        <p:snd r:embed="rId1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gkor Wat 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Content Placeholder 3" descr="Angkor Wat.jpg"/>
          <p:cNvPicPr/>
          <p:nvPr/>
        </p:nvPicPr>
        <p:blipFill>
          <a:blip r:embed="rId1"/>
          <a:stretch/>
        </p:blipFill>
        <p:spPr>
          <a:xfrm>
            <a:off x="0" y="1450800"/>
            <a:ext cx="9144000" cy="54072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4:16:33Z</dcterms:created>
  <dc:creator>tlunger</dc:creator>
  <dc:description/>
  <dc:language>en-US</dc:language>
  <cp:lastModifiedBy>tlunger</cp:lastModifiedBy>
  <dcterms:modified xsi:type="dcterms:W3CDTF">2011-02-11T14:19:41Z</dcterms:modified>
  <cp:revision>7</cp:revision>
  <dc:subject/>
  <dc:title>The Khmer Kingdom </dc:title>
</cp:coreProperties>
</file>